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189-BA84-4309-92C6-C6E24EDB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761-9D75-4D75-A56D-5D65B07A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2FD-7B26-4C86-9C4E-DA823BD0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3F2-A7BC-445A-8BFD-3C004CA8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9359-B053-4124-835C-F8E3F5C0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F688-D2EF-4741-B647-66AF57E8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AAF1-C591-42F8-B5C5-8C03D447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793D-ED24-4053-939A-724D1D41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8167-FAB5-418D-B413-0099C25D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1570-5D59-4D99-BF47-74CE17EB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8D59-F1CE-4DF0-A710-A45C9DB1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7C2-6B71-4274-88EC-5109BF5A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87F8-44EB-40BE-89DC-41762E28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8B9E-9C83-4F5B-BE90-5170CF59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978B-A484-4F3D-A5F8-56E04E45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B367-4667-4F07-B330-E50311E4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C272-9BFB-40FA-8269-87DF58D0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9A3-D917-46E9-9ACB-2458945B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205-3555-4316-9BC8-5A2D4E7C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B38-63EC-43FB-AE35-2D59126E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460-0F90-409E-8878-72B03DD1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1EB-FD9E-4CF5-818B-6BA5A244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1DA-5DD3-4C76-832C-280A45A9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6D0-FB38-44B7-8181-6F90F69B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8E88-03B2-45B5-ADF8-5E2C21F4DBE8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0FA8-EF98-4442-B278-6871D8C4B395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nbrain.com/football/index.html" TargetMode="External"/><Relationship Id="rId2" Type="http://schemas.openxmlformats.org/officeDocument/2006/relationships/hyperlink" Target="http://www.brainpop.com/math/numbersandoperations/decimals/" TargetMode="External"/><Relationship Id="rId3" Type="http://schemas.openxmlformats.org/officeDocument/2006/relationships/hyperlink" Target="http://www.brainpop.com/math/numbersandoperations/decimals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6c0c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Verdana"/>
              </a:rPr>
              <a:t>Opener:  Estimate the answer to each problem below.</a:t>
            </a:r>
            <a:endParaRPr b="0" lang="en-US" sz="3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.) 4.81 x 78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.) 908.2 ÷ 88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3.) 0.082 x 14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4.) 71.56 ÷ 9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33ccff"/>
                </a:solidFill>
                <a:latin typeface="Arial"/>
              </a:rPr>
              <a:t>Unit 4 – Decimal Operations &amp; Percents</a:t>
            </a:r>
            <a:r>
              <a:rPr b="0" lang="en-US" sz="4700" spc="-1" strike="noStrike">
                <a:solidFill>
                  <a:srgbClr val="f6fcac"/>
                </a:solidFill>
                <a:latin typeface="Arial"/>
              </a:rPr>
              <a:t>	</a:t>
            </a:r>
            <a:endParaRPr b="0" lang="en-US" sz="4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Section 4.3 – Add and Subtract Decimals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Objective :  </a:t>
            </a:r>
            <a:r>
              <a:rPr b="0" i="1" lang="en-US" sz="3200" spc="-1" strike="noStrike">
                <a:solidFill>
                  <a:srgbClr val="f8f8f8"/>
                </a:solidFill>
                <a:latin typeface="Arial"/>
              </a:rPr>
              <a:t>to accurately add and subtract decimals</a:t>
            </a:r>
            <a:endParaRPr b="0" lang="en-US" sz="32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Verdana"/>
              </a:rPr>
              <a:t>To add or subtract decimals, line up the decimal points.  Then add or subtract as usual and bring the decimal point straight down.</a:t>
            </a:r>
            <a:r>
              <a:rPr b="0" lang="en-US" sz="3200" spc="-1" strike="noStrike">
                <a:solidFill>
                  <a:srgbClr val="00808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Examples:  We must always line up the decimals by the decimal point and write zeros in any “empty” place value.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2743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1.) 6.02 + 4.9  we write a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2.) 8.284 – 3.53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we write as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3.) 5 + 2.859 we write as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594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Skill Practice:  Evaluate the following decimal operations if a = 2.5, b = 8.4 and c = 6. 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1.) 3.76 + b 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2.) a – 1.395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3.) a + c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4.) 12.38 - b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Verdana"/>
              </a:rPr>
              <a:t>You should estimate to see if your answers are reasonable…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579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Verdana"/>
              </a:rPr>
              <a:t>Application:</a:t>
            </a:r>
            <a:r>
              <a:rPr b="0" lang="en-US" sz="3600" spc="-1" strike="noStrike">
                <a:solidFill>
                  <a:srgbClr val="66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Samuel adds the following three numbers:  5.41,  12,  9.2  and arrives at an answer of 14.73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-208440">
              <a:spcBef>
                <a:spcPts val="799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Part A: Is this answer correct? 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	</a:t>
            </a:r>
            <a:r>
              <a:rPr b="0" lang="en-US" sz="3200" spc="-1" strike="noStrike" u="sng">
                <a:solidFill>
                  <a:srgbClr val="66ffff"/>
                </a:solidFill>
                <a:uFillTx/>
                <a:latin typeface="Verdana"/>
              </a:rPr>
              <a:t>	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-208440">
              <a:spcBef>
                <a:spcPts val="799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Part B: Use what you know about decimal addition to explain how you came to your conclusion?  Use words and/or numbers in your explanation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Extensions: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1"/>
              </a:rPr>
              <a:t>Power Football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(try algebra style for a challenge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2"/>
              </a:rPr>
              <a:t>Brainpop</a:t>
            </a: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3"/>
              </a:rPr>
              <a:t> on Decimal Concept (Adding Included)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  <a:p>
            <a:pPr lvl="1" marL="72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008080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14:18:38Z</dcterms:created>
  <dc:creator>ccps</dc:creator>
  <dc:description/>
  <dc:language>en-US</dc:language>
  <cp:lastModifiedBy>Chad Miller</cp:lastModifiedBy>
  <dcterms:modified xsi:type="dcterms:W3CDTF">2008-08-03T00:35:20Z</dcterms:modified>
  <cp:revision>22</cp:revision>
  <dc:subject/>
  <dc:title>Unit 1 – Variables and Equations </dc:title>
</cp:coreProperties>
</file>